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50F-6A51-4E63-9045-94B8A5B6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3B8-8444-45AA-B58E-B2DA85E5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A1BDB-9E22-460F-B538-872B63AC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3683D-D039-47D4-9A01-E1DBD76D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902A7-7C64-4D0F-875E-7DE52F64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0E797-480E-4DC5-9321-53C521A1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C42F5-B49B-4FB0-84E8-16CD7D7F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83A70-416C-487C-A282-143A6391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CCAFF-C891-45CC-BC77-E59B5D69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B46E1-7970-4AB6-AA2B-B3EF78F2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3D410-286D-4D6C-906F-E964D03C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75DCC-775F-4D11-AB78-641B084B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083-EBB2-4337-890F-269B417F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2BE8A-A820-49EC-A436-6E4EA77E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2E66E-CF92-432B-B88C-E10AA37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19887-B67B-4DCB-8CFA-68914EF3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7F6D4-5073-46D3-BD0E-BC1A6474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ECDB0-3629-4071-B928-3C94EBB2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3E67E-EA69-41D6-AEB4-74B78DE4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468A8-EC6B-4CB2-9352-3F259F95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BF1FF-501A-49BD-A86F-F7D66782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15AEC-0979-4715-9A7C-5CBA6A0E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8DF50-E40B-4126-A677-A878AD5D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2E9-665B-4821-A591-6B543F2F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001C3-2314-4404-BD68-2F1C5535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2C797-E76C-4680-85D6-C82E9CD0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A07A7-97C7-4132-9661-1263ED3F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8B1FB-62D9-446B-B3CA-7CDF7087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84902-32B8-4ED4-9C01-2472B4CE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CA962-A543-4EA6-A588-4371F806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DB6B5-3358-46CA-B6B5-DF2A44DD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00F2B-20B1-4B6B-B72B-BC206559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3D91C-2E17-4613-8FB8-B20B21CB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7DFDB-D21B-48C0-AC82-9138DE53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5329-FAF3-4B6E-9E1C-C77D72AB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B875C-0B34-4684-A590-79BE71EF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933DA-3B21-44A6-B93F-7D282219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70A67-0F4A-4448-B05F-00760345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103D1-5DDA-4A5D-B7D7-98E1F346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321EA-3827-4463-9F04-763D438A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55563-5E8A-471D-9C61-5551AAF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F1778-D70C-4B7F-8A31-FD3AB640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6913D-798B-4E43-B337-FEA64ED1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3B7C3-2D92-4C4C-84D6-5CF173EF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4B957-C7CD-4835-86FA-6D2FFF6A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5BA3-972F-47C9-A83C-F8DEB462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8937B-8DB5-4630-BCB1-CDDFC91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358C5-C85A-4DF1-85EF-CC4DCDC2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C9AF9-D6D4-47A5-B396-352ABD67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1342B-1680-4F63-A22E-33F25017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2F601-57A4-441F-B9BC-7CA2097B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2B75-4F53-401D-A6FA-FA114B24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2EFE-87AE-4B92-8F96-080B6FEB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98AC-CE87-4679-8AFD-46C5D070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2C77-7D98-43C4-AE3C-B65C78A9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FB47-BC6A-49E8-8906-346E3CE2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108-83DB-4783-B8F6-825747EF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AEF2-933F-4FD3-B771-E8DE2473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0630-DAFA-4645-AF35-4D8CDD72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A3FF-90AD-4F2F-A3C0-F40A5F49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D552-BC0F-4CF7-B58C-5F7A88D6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429F-C11B-48D3-B6BD-8CEB2C93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BF7E-A301-454F-9AA6-868C8377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7686-7241-4213-9528-F0D6173F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6B06-13B4-40C8-B386-6CF3BB25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CD7B-5387-4F03-A5C0-B3CF1DF5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10C4-458D-4723-ACE8-889FDD69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AE5-CCBF-4C1E-96A1-59760AB5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E57C-AF20-41EF-921C-FD9BA49B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53E55-7AA5-4672-B375-4E7650AD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EDAD-D3CC-4040-8F53-42B1575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6B9E-E23C-4EDA-B0D8-5610DF35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3314-77BC-4754-9D64-F73E1D7F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75E3B-15D7-40FA-B63B-EDCE98D0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82EA-3513-48A2-B120-D7933B49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1D23-CED1-41BC-B90E-0C4EF422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0FC99-4510-4386-A329-033C3FED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8729-948B-4646-AFD5-79FEB733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FD4-59FE-425B-B992-C2D6A383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72C9-3AF4-4EC3-B81A-25BE557A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7EC94-37E8-4A9B-865F-EB634D10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34AB-8607-4E88-885C-4DF92AF9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5F57D-D383-4462-9801-8F553E68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B1257-7CC2-4E88-80F2-960AEF6C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C71E-9E7C-4578-A231-AF33D0B4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2CF8-FFBD-4627-9346-7D3CB74D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1D0D-08DD-439E-8405-BFD39740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2F208-2A35-4C3D-A261-2B5C4399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9BD1-DB58-41A7-91A3-F681A6CC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ACE-BCA9-46D0-8BCB-6DB29EE8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7F6CD-A6A0-4AB0-835E-F6BD01F2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2BDE4-A24C-446B-A029-10E251FB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980AB-44BD-45A9-967F-F5F7F8F6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4CB71-9778-4C5A-AC4F-55234904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28BF4-58D2-49BA-BA8A-16356796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C399-085A-44DF-8776-AA9C0D5A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78DC-6C2E-4542-B2D8-D22A1AB4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DF6E8-AF74-474C-AC88-AE2BC82D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9B71F-FAB9-4C0A-AEA0-FD0E89B5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32259-A035-4E17-83EE-55FA19DA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D7B-E036-4E95-91E1-D3EAA4F5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196CA-7603-4D75-B0C8-51CEADCA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F674A-3406-4EE5-9859-C6023349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3DA8A-C442-4596-A803-E09BE14F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F36C6-D239-498A-AD1B-A9FEDDF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3EE50-8E07-464F-863C-8631D410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0D349-D5F4-4E0C-9278-593256C3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5760B-0042-4CA8-8083-FD9A5665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EAC1-39D7-4C61-9DDD-F4742F8D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CE7A4-8EAA-43D6-BF7E-8C94A754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64B3F-DA89-42FB-A5DD-F93D10F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D0F-3CEA-4F71-9CA3-EF9C85C9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D6500-D73B-4A91-8C9A-3401264A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63B7C-8E3C-4C4C-ADD9-B5839A89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C0BF1-4EC9-4E61-A564-17B0AB02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12DB6-095A-422D-8FFF-F271276A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73C4-7EEC-46CA-9211-A05892FC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E672E-3AB0-4FC7-8C7B-F9F9C20F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61667-C24E-43B4-A5E1-0F35C5F2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48A39-F9F2-4BC1-828E-C0A0295E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C8C08-A6A5-4B0B-8EC9-A411C65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D38D5-CE71-4F95-9FB3-76350C4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F5C-9BB3-4C7E-9116-514CD6FE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68165-E44E-4435-8497-9A816DB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1CF57-343F-4278-AD0B-093DEEB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A63C1-5CBD-4914-A528-579F8A06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A2413-860A-4BBC-A42F-12F572A1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DFB04-0EB6-4AE3-A88E-B5FBB74C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46489-F8E6-4596-B808-171B3E1D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E750A-E24A-4394-9E45-1CA3DE81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DEA4E-FA92-47C9-9007-5C5B0407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3AB9B-7599-4E0A-A25E-5AA49850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6FCC7-F24F-4B02-BB53-FC0394BC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6DD-80BB-4A2D-B451-D582C825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ED8D4-440A-46D3-86A5-5B823C7A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5E556-7069-4F68-8A96-E482894A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6575D-9303-42BC-9159-A04B079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0CB24-4E59-43FC-A83F-28B2796F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511B-028F-4F6D-9CB3-9A8A78E7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A317-0828-40FE-B6D3-CC274FF6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DD82D-0284-433F-9B69-6FFEF1E8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49B32-FBCE-4ED8-A763-A627ED59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3AF59-5123-439A-BAB7-19730DF7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B4A07-B369-4B0D-8D7C-2B82A93A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218C-FC9A-40AF-A167-94F31277A6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5E9C-3767-4B90-93E8-DA4632160C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08B0-979D-4498-9277-00D368535B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CC18-D5F2-4189-93FE-084821A3DC4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2E07-ABE1-465F-92A5-1A1BCE7812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95F2-CA6C-4CE5-8F5E-12C0B026BC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3F40-C88B-42F1-A1FB-A373D0E2AE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DFEA-9DB5-40DA-84B5-9C94DF65FA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A3AB-DA88-4FB9-A147-7608E2820C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1B59-0E22-480D-86AD-CB4DBBCD3D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65ED-F9CB-4F76-8F8F-C57179AEC5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579E-7D1B-47EC-A655-3328ABA618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6 Buď tebe, Bože,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050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tebe, Bože, č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enu tvojmu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v svojej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všetko dobré dáva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celým živo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edieš, chrániš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láskou otcovs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nami držíš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chceš nám deň čo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ť svojej priazne da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sme vždy vo vier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pravde pevne stá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š v skúškach zvíťaz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Duch tvoj vedie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pádom chráni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vojho Slov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tebe, Otč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Synovi vždy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Duchu Sväté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vojich deti pr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trojjediný Bo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pásy blaho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vekov nave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 patrí vďaka, če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7:59:52Z</dcterms:modified>
  <cp:revision>11</cp:revision>
  <dc:subject/>
  <dc:title>Je veľký náš Pán, on slávy je Kráľ Nech do všetkých strán  spev vrúcnych znie chvál.</dc:title>
</cp:coreProperties>
</file>